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4FD55-557A-4956-8ED4-E47B88DFFC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2155-BCE8-48E9-81B4-60071FD1C6F8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21FBA-2D4F-4433-A10B-F84F544536A1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023AE-E216-4FE0-B4BA-7857FB74B5D8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3A5F-179F-4B78-9F5E-E41B68A39BAF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9B5C-CEBF-4BB8-891B-264434CD5AAE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EB624-5E61-4919-99B7-D712165F042B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5A30-AEA0-4C06-96C3-7B2B8A4DB8DA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B614-A022-49C5-B7E0-9155BAA107F2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AD74-1267-463D-953E-A8410FB1C99E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1016F-70CE-4289-8912-B64D16E84D89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4393-BF1C-47FC-972D-844C26E0B53E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01B5E-0D3D-46E2-AEEA-736DD2BE1C3A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84DA8-992D-4EBB-A49F-0967F04C5AA2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3F948-31EB-4795-9BC0-D44C92A6AA24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4D35-A5E4-4990-9BCF-CB3D430053DF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BF883-D686-4EB8-8D36-FFB15BCCB8E3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800F-F974-4BDF-835E-0B3CB78A9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9AF1-F471-4AFB-9570-4CBE391A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7BBC-C67D-446B-A88F-B9263A8E4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B020-E52A-42EB-A3B6-193826743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D8BA5-CDC2-49F0-9AF8-1D30B1AD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4D496-FD94-479A-917E-2F60F56EF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B458D-97F3-44FF-AAB5-2C588574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6C46-E9D0-4D6A-B7ED-70544C37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21AC-D6C3-4527-9008-F0E5BD84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E64E-DD02-4230-BF0F-49D97B461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1FDB-38CF-452B-AB8C-0D92670CC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037F-2BED-4D94-BB38-14E1DFBB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C1FEF-0F03-43D5-A368-9E45F2434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29194-3751-45B5-8BB3-621084684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9F80E-C1CA-4A55-A3DF-B3A413E46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E6294-E990-4D05-AE70-096A4E831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C01A-C567-4ABA-B40A-A16EBA009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D613-1E0D-423D-9619-5A8F6FF40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C71A-F988-45DB-9C46-7467DA58E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E757-BA0A-43B9-9445-46F3C6E7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30CD-1B45-447D-B92E-BF6A0CB5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19A3-EC12-42D0-BFB6-939B5352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CD997-131A-45DC-A8FE-C4CFB41B4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D2CF-621B-4EE4-BF56-04B9AAD37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99da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5F4EB-BC06-401F-97E5-ACD03E48FC9E}" type="slidenum">
              <a:rPr b="0" lang="en-US" sz="1400" spc="-1" strike="noStrike">
                <a:solidFill>
                  <a:srgbClr val="c99da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3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7AA39-7A4D-4C17-A4E0-AC7F6B603C96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Toulmin Mod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A tool for diagramming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informal</a:t>
            </a:r>
            <a:r>
              <a:rPr b="0" lang="ja-JP" sz="3200" spc="-1" strike="noStrike">
                <a:solidFill>
                  <a:srgbClr val="360036"/>
                </a:solidFill>
                <a:latin typeface="Tahoma"/>
              </a:rPr>
              <a:t>”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 arguments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about claims..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24040" y="2133720"/>
            <a:ext cx="62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here are four basic types of claims: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fact: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claims which focus on empirically verifiable phenomena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judgment/value: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claims involving opinions, attitudes, and subjective evaluations of things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policy: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claims advocating courses of action that should be undertaken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definition/classification: 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indicates what criteria are being used to to define a term or what category something falls into 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rounds (proof or data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876320" y="2133720"/>
            <a:ext cx="64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Grounds refers to the proof or evidence an arguer offers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Grounds can consist of statistics, quotations, reports, findings, physical evidence, or various forms of reasoning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I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’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m a vegetarian.  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One reason is that I feel sorry for the animals. Another reason is for my own health.</a:t>
            </a:r>
            <a:r>
              <a:rPr b="0" lang="ja-JP" sz="2000" spc="-1" strike="noStrike">
                <a:solidFill>
                  <a:srgbClr val="5536c8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 </a:t>
            </a:r>
            <a:r>
              <a:rPr b="0" lang="ja-JP" sz="2000" spc="-1" strike="noStrike">
                <a:solidFill>
                  <a:srgbClr val="5536c8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I made the dinner, 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so you can do the dishes.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about grounds..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47720" y="2209680"/>
            <a:ext cx="73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Grounds are the support the arguer offers on behalf of his/her claim. The grounds answer questions such as: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"What is your proof?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"How do you know?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"Why?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It looks like rain.  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The barometer is falling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.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”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"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The other Ritz Carlton hotels I've stayed at had great pools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, so I'll bet this one has a great pool too." 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ill more about grounds..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47720" y="2057400"/>
            <a:ext cx="68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grounds can be based on: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evidence: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facts, statistics, reports, or physical proof 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source credibility: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authorities, experts, celebrity endorsers, a close friend, or someone's say-so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analysis and reasoning: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reasons may be offered as proof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premises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already held by the listener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lue words for identifying ground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he grounds for an argument often follow words such as 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because,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”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since,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”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 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given that…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Airports should x-ray all luggage </a:t>
            </a: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because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a bomb could be placed in a checked baggage.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I expect to do well on the test, </a:t>
            </a: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since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I studied all night for it.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rra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800360" y="2057400"/>
            <a:ext cx="612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he warrant is the </a:t>
            </a: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inferential leap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that connects the claim with the grounds.  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he warrant is typically </a:t>
            </a: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implicit 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(unstated) and requires the listener to recognize the connection between the claim and grounds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he implicit nature of warrants means the 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meaning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”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of an argument is as much a part of the receiver as it is a part of the message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Some arguments are 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multi-warranted,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”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e.g., based on more than one inferential leap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about warrants..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7439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he warrant performs a "linking" function by establishing a mental connection between the grounds and the claim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Muffin is running a temperature.  I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’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ll bet she has an infection.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”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"That dog is probably friendly.  It is a Golden Retriever.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523880" y="379584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ahoma"/>
                <a:ea typeface="ＭＳ Ｐゴシック"/>
              </a:rPr>
              <a:t>(warrant: sign reasoning; a fever is a reliable sign of an infection)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981080" y="533412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(warrant: generalization; most or all Golden Retrievers are friendly)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ill more about warrants..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warrants can be based on: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ethos: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source credibility, authority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logos: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reason-giving, induction, deduction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pathos: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emotional or motivational appeals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value premises: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values shared by, or presumed to be shared by, the receiver(s)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note: these categories aren't mutually exclusive, there is considerable overlap among the three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first triad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ample argument 1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AutoShape 8"/>
          <p:cNvSpPr/>
          <p:nvPr/>
        </p:nvSpPr>
        <p:spPr>
          <a:xfrm flipV="1">
            <a:off x="4038480" y="3352680"/>
            <a:ext cx="2667240" cy="1524240"/>
          </a:xfrm>
          <a:custGeom>
            <a:avLst/>
            <a:gdLst>
              <a:gd name="textAreaLeft" fmla="*/ 266760 w 2667240"/>
              <a:gd name="textAreaRight" fmla="*/ 2400840 w 2667240"/>
              <a:gd name="textAreaTop" fmla="*/ 871560 h 1524240"/>
              <a:gd name="textAreaBottom" fmla="*/ 1306800 h 1524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3048120" y="3505320"/>
            <a:ext cx="10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Claim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6844320" y="35035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Grounds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800240" y="48006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Warrant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905120" y="2819520"/>
            <a:ext cx="266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The Indians are likely to win the ballgame tonight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858000" y="287964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They are playing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at home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4175280" y="5165640"/>
            <a:ext cx="298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(unstated) Generalization: The home team enjoys an advantage in baseball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first triad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ample argument 2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AutoShape 8"/>
          <p:cNvSpPr/>
          <p:nvPr/>
        </p:nvSpPr>
        <p:spPr>
          <a:xfrm flipV="1">
            <a:off x="4038480" y="3352680"/>
            <a:ext cx="2667240" cy="1524240"/>
          </a:xfrm>
          <a:custGeom>
            <a:avLst/>
            <a:gdLst>
              <a:gd name="textAreaLeft" fmla="*/ 266760 w 2667240"/>
              <a:gd name="textAreaRight" fmla="*/ 2400840 w 2667240"/>
              <a:gd name="textAreaTop" fmla="*/ 871560 h 1524240"/>
              <a:gd name="textAreaBottom" fmla="*/ 1306800 h 1524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2971800" y="35053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Claim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844320" y="35035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Grounds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4800240" y="48006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Warrant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752480" y="281952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5536c8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Juno</a:t>
            </a:r>
            <a:r>
              <a:rPr b="0" lang="ja-JP" sz="2000" spc="-1" strike="noStrike">
                <a:solidFill>
                  <a:srgbClr val="5536c8"/>
                </a:solidFill>
                <a:latin typeface="Times New Roman"/>
              </a:rPr>
              <a:t>”</a:t>
            </a: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 is a wonderful movie.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6705720" y="25909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It was nominated for 4 Academy Awards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4191120" y="516564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(unstated) Sign: a movie</a:t>
            </a:r>
            <a:r>
              <a:rPr b="0" lang="ja-JP" sz="2000" spc="-1" strike="noStrike">
                <a:solidFill>
                  <a:srgbClr val="5536c8"/>
                </a:solidFill>
                <a:latin typeface="Times New Roman"/>
              </a:rPr>
              <a:t>’</a:t>
            </a: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s greatness can be measured in the number of Oscar nominations it receives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re are three claims. Rate them.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Issue: What car should we buy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1: We should buy the Chevy Metro because it is very economical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2: We should buy the Volvo station wagon because it is very safe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3: We should buy the Ford Falcon because it was red. 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first triad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ample argument 3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AutoShape 8"/>
          <p:cNvSpPr/>
          <p:nvPr/>
        </p:nvSpPr>
        <p:spPr>
          <a:xfrm flipV="1">
            <a:off x="4038480" y="3352680"/>
            <a:ext cx="2667240" cy="1524240"/>
          </a:xfrm>
          <a:custGeom>
            <a:avLst/>
            <a:gdLst>
              <a:gd name="textAreaLeft" fmla="*/ 266760 w 2667240"/>
              <a:gd name="textAreaRight" fmla="*/ 2400840 w 2667240"/>
              <a:gd name="textAreaTop" fmla="*/ 871560 h 1524240"/>
              <a:gd name="textAreaBottom" fmla="*/ 1306800 h 1524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971800" y="35053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Claim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6844320" y="35053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Grounds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800240" y="48006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Warrant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828800" y="318456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Biff was probably in a fight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6705720" y="318456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He has a black eye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4191120" y="516564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(unstated) Sign: A black eye is a reliable indicator that a person has been in a fight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first triad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ample argument 4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AutoShape 3"/>
          <p:cNvSpPr/>
          <p:nvPr/>
        </p:nvSpPr>
        <p:spPr>
          <a:xfrm flipV="1">
            <a:off x="4038480" y="3352680"/>
            <a:ext cx="2667240" cy="1524240"/>
          </a:xfrm>
          <a:custGeom>
            <a:avLst/>
            <a:gdLst>
              <a:gd name="textAreaLeft" fmla="*/ 266760 w 2667240"/>
              <a:gd name="textAreaRight" fmla="*/ 2400840 w 2667240"/>
              <a:gd name="textAreaTop" fmla="*/ 871560 h 1524240"/>
              <a:gd name="textAreaBottom" fmla="*/ 1306800 h 1524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895480" y="350532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Claim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844320" y="35053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Grounds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800240" y="48006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Warrant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1828800" y="2117880"/>
            <a:ext cx="2514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If you surf at Huntington Beach right after it rains you risk getting a bacterial infection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6705720" y="257508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Runoff from the rain washes bacteria into the ocean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4191120" y="516564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(unstated) Cause-effect: bacteria in the water causes surfers to get ill.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0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Begin your arguments: How do I know if I need to use backings, rebuttals and qualifiers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Ask yourself these questions when attempting to argue in this model: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1. What position do I want my reader to take?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2. Where must my audience begin so that they can take the step I want them to take and agree with my claimM?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egin your argum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3. What is the linking idea between my grounds and claim? (Question 2 to 1)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4. Is the move from Question 2 to 1 safe and reliable?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5. What possibilities might upset the arguments (an exception that could invalidate my claim)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6. Should I use qualifiers on my claim?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, let’s go through an argument question by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6003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I want restaurant owners to agree with me that they would benefit from adding a service charge and do away with tipping so I will argue: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-- A 15 percent service charge should be added to restaurant bills in lieu of tipping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his is the </a:t>
            </a:r>
            <a:r>
              <a:rPr b="1" lang="en-US" sz="3200" spc="-1" strike="noStrike">
                <a:solidFill>
                  <a:srgbClr val="360036"/>
                </a:solidFill>
                <a:latin typeface="Tahoma"/>
              </a:rPr>
              <a:t>claim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.  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, let’s go through an argument question by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2. I believe restaurant owners will value a stable work force and argument, so I will argue: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Waitresses making a reliable income will be less likely to leave AND a service fee will eliminate inequity that results from patrons being unsure how much to tip. 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hese are the </a:t>
            </a:r>
            <a:r>
              <a:rPr b="1" lang="en-US" sz="3200" spc="-1" strike="noStrike">
                <a:solidFill>
                  <a:srgbClr val="360036"/>
                </a:solidFill>
                <a:latin typeface="Tahoma"/>
              </a:rPr>
              <a:t>grounds 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, let’s go through an argument question by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3. The bottom line is that owners want maximum profit, so I should argue that a more stable and fairly treated staff will result in better profits. Therefore, I will argue: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A high turnover of servers is costly in the industry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his is the </a:t>
            </a:r>
            <a:r>
              <a:rPr b="1" lang="en-US" sz="3200" spc="-1" strike="noStrike">
                <a:solidFill>
                  <a:srgbClr val="360036"/>
                </a:solidFill>
                <a:latin typeface="Tahoma"/>
              </a:rPr>
              <a:t>warrant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, let’s go through an argument question by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4. I need to show that there is an economic benefit to making a staff happy, so I will argue: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Paperwork and training involved in new hires is costly and time consuming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his is the </a:t>
            </a:r>
            <a:r>
              <a:rPr b="1" lang="en-US" sz="3200" spc="-1" strike="noStrike">
                <a:solidFill>
                  <a:srgbClr val="360036"/>
                </a:solidFill>
                <a:latin typeface="Tahoma"/>
              </a:rPr>
              <a:t>backing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 of my argument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, let’s go through an argument question by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33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5. 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I need to consider what rebuttals one could make about my claim. In this case, I could argue: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Initially servers might resent the new policy and give poor service in protest to the limit on their earning potential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I could respond to this </a:t>
            </a: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rebuttal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by including a claim targeted at servers and suggesting this policy could bring them a stable income. 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, let’s go through an argument question by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60036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Given my rebuttal, I would definitely want to </a:t>
            </a:r>
            <a:r>
              <a:rPr b="1" lang="en-US" sz="3200" spc="-1" strike="noStrike">
                <a:solidFill>
                  <a:srgbClr val="360036"/>
                </a:solidFill>
                <a:latin typeface="Tahoma"/>
              </a:rPr>
              <a:t>qualify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 my argument to suggest the benefits for both employee and employer: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In restaurants that have seen high turn-over and unstable income potential for servers, owners should adopt a 15 percent service fee to patron’s bills. 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assumptions need to be true for the claim to be tru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1: The Chevy Metro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2: The Volvo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3: The Ford Falcon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can you support or refute each claim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1: We should buy the Chevy Metro because it is economical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2: We should buy the Volvo station wagon because it was safe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3: We should buy the Ford Falcon because it was red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alid clai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What is the underlying problem with claim 3?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oulmin Model: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Arguments need three things to be viable: 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0036"/>
                </a:solidFill>
                <a:latin typeface="Tahoma"/>
              </a:rPr>
              <a:t>Grounds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0036"/>
                </a:solidFill>
                <a:latin typeface="Tahoma"/>
              </a:rPr>
              <a:t>Warrants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0036"/>
                </a:solidFill>
                <a:latin typeface="Tahoma"/>
              </a:rPr>
              <a:t>Backing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ephen Toulmi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2290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Stephen Toulmin, originally a British logician, is now a professor at USC.  He became frustrated with the inability of formal logic to explain everyday arguments, which prompted him to develop his own model of practical reasoning.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  <p:pic>
        <p:nvPicPr>
          <p:cNvPr id="111" name="Picture 12" descr="TOULMIN"/>
          <p:cNvPicPr/>
          <p:nvPr/>
        </p:nvPicPr>
        <p:blipFill>
          <a:blip r:embed="rId1"/>
          <a:srcRect l="0" t="0" r="10063" b="0"/>
          <a:stretch/>
        </p:blipFill>
        <p:spPr>
          <a:xfrm>
            <a:off x="2590920" y="2209680"/>
            <a:ext cx="240012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three basic elements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76520" y="2057040"/>
            <a:ext cx="63244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Claim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(assertion or proposition)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Grounds (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proof, grounds, support)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Warrant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(inferential leap)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263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263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o make these arguments, a writer </a:t>
            </a:r>
            <a:r>
              <a:rPr b="1" i="1" lang="en-US" sz="2400" spc="-1" strike="noStrike">
                <a:solidFill>
                  <a:srgbClr val="360036"/>
                </a:solidFill>
                <a:latin typeface="Tahoma"/>
              </a:rPr>
              <a:t>could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decide to use: relevance to the argument (backing), address opposing viewpoints (rebuttal)AND qualify your argument were it is logical to do so. 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ai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24040" y="2057400"/>
            <a:ext cx="7191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A claim is the point an arguer is trying to make.  The claim is the conclusion, proposition, or assertion an arguer wants another to accept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he claim answers the question, "So what is your point?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Rosario is an American citizen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, because she was born in the United States.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Because the groundhog saw his shadow,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there will be six more weeks of winter.</a:t>
            </a:r>
            <a:r>
              <a:rPr b="0" lang="ja-JP" sz="2000" spc="-1" strike="noStrike">
                <a:solidFill>
                  <a:srgbClr val="5536c8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14:51:01Z</dcterms:created>
  <dc:creator>Robert H. Gass</dc:creator>
  <dc:description/>
  <dc:language>en-US</dc:language>
  <cp:lastModifiedBy>Beth Walsh-Moorman</cp:lastModifiedBy>
  <dcterms:modified xsi:type="dcterms:W3CDTF">2013-01-06T23:03:35Z</dcterms:modified>
  <cp:revision>57</cp:revision>
  <dc:subject/>
  <dc:title>Toulmin Model PPT</dc:title>
</cp:coreProperties>
</file>