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731-E6C6-4643-8A13-F715C639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8295-D06D-4414-9437-497968EFD588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5356-3598-402C-BB9F-A04DA1E40069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6B4-F1B0-4720-970E-EE85C10E1A24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570-9A21-403E-96BC-7B59F3D7935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3CE1-362B-4BD7-8BE7-02D820C19B01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4002-6A0C-4769-BE65-B1D9680B60DD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238-A6C6-48F5-8A28-685637697F29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5EBA-DE60-4D30-95B8-1711165F33F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4E40-A0B3-470F-8D2F-8C0987D33D19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8C1E-C1C6-4608-8341-38D6789A955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3FB7-50B8-44D0-8806-67354D084350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E3DD-34C6-4B60-91C4-1D8A84FF13A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A5F-A28B-45D8-9974-139ACAF7AEDD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1C5C-1D59-4E77-836F-EDCA1DCE4E17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1541-3AC1-4CF7-9671-61AC9737EE1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7E2B-2A71-4F33-AD20-E6D77BE3CB4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8F1-65D2-4490-ADBE-F8A9F2EE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071-36F3-415F-AFF4-865AE031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52D-27DD-41B1-AFC2-FD5B26DC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DCD-A260-4A91-A218-5969C85B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AAE9-2025-4170-BD96-9BC3C7F4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EC73-8548-45EF-A0B2-330A2D0E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0AC3-76E7-46F5-AA06-6FE04636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A299-76F4-4B3B-881D-70BCB42D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E471-D122-4AB1-860F-FB7963C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D72A-1F62-47F3-AED6-62A208D8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6D4D-FD36-4041-86A3-B2B92D0A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60C-30A0-4051-818E-2DC1F15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4B5B-7830-45C3-A2D1-288E411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9D5D-250E-4A59-8B2D-C81A1AC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075F-6256-4051-8096-027EE36C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C52-5E89-4671-A4FE-92E1493B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1B84-D431-4AAF-BF2A-4BA1CD85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CF1-ADA6-43CB-B0A3-6980A91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424-B421-46C4-98E8-2816C9AE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BA3-286F-472C-B242-9CA99859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1A5-9FC5-4E8B-AEA5-198B6A17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F37-1DC2-4518-9D5C-26F203E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C02-0F49-47B6-A55F-4D04081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9C5-A871-4931-9080-3086330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707-A1B4-4F57-991A-D4E888C0F059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7479-81D3-4565-BB17-7CA7879D2C2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oulmin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tool for diagramming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formal</a:t>
            </a: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argument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claim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24040" y="213372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re are four basic types of claim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fact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which focus on empirically verifiable phenomen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judgment/valu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involving opinions, attitudes, and subjective evaluations of thing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olic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advocating courses of action that should be undertaken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definition/classification: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ndicates what criteria are being used to to define a term or what category something falls into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ounds (proof or data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76320" y="213372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refers to the proof or evidence an arguer offer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consist of statistics, quotations, reports, findings, physical evidence, or various forms of reasoning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 a vegetaria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One reason is that I feel sorry for the animals. Another reason is for my own health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I made the dinner,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o you can do the dishe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7720" y="2209680"/>
            <a:ext cx="73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are the support the arguer offers on behalf of his/her claim. The grounds answer questions such a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at is your proof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How do you know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y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t looks like rai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barometer is falling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other Ritz Carlton hotels I've stayed at had great pool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so I'll bet this one has a great pool too."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47720" y="2057400"/>
            <a:ext cx="68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evidenc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facts, statistics, reports, or physical proof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ource credibilit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uthorities, experts, celebrity endorsers, a close friend, or someone's say-so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analysis and reasoning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reasons may be offered as proof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remis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lready held by the listener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ue words for identifying gr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grounds for an argument often follow words such as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becaus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inc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iven that…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Airports should x-ray all luggage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becaus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 bomb could be placed in a checked baggage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 expect to do well on the test,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inc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 studied all night for it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00360" y="2057400"/>
            <a:ext cx="612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he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nferential leap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that connects the claim with the grounds. 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ypically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(unstated) and requires the listener to recognize the connection between the claim and ground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implicit nature of warrants means th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eaning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f an argument is as much a part of the receiver as it is a part of the messag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ome arguments ar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ulti-warranted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.g., based on more than one inferential leap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performs a "linking" function by establishing a mental connection between the grounds and the claim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uffin is running a temperature.  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ll bet she has an infection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That dog is probably friendly.  It is a Golden Retriever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3880" y="379584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  <a:ea typeface="ＭＳ Ｐゴシック"/>
              </a:rPr>
              <a:t>(warrant: sign reasoning; a fever is a reliable sign of an infection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81080" y="53341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(warrant: generalization; most or all Golden Retrievers are friendly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warrant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e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source credibility, authority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log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reason-giving, induction, deductio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pa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motional or motivational appeal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value premise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values shared by, or presumed to be shared by, the receiver(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note: these categories aren't mutually exclusive, there is considerable overlap among the three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048120" y="35053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05120" y="28195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 Indians are likely to win the ballgame ton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0" y="2879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y are playing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at hom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175280" y="516564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Generalization: The home team enjoys an advantage in baseball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52480" y="28195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Juno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 is a wonderful movie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705720" y="2590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t was nominated for 4 Academy Award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191120" y="516564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movie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s greatness can be measured in the number of Oscar nominations it receive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 are three claims. Rate them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ssue: What car should we bu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very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is very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28800" y="31845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Biff was probably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705720" y="31845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He has a black ey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black eye is a reliable indicator that a person has been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895480" y="3505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28800" y="21178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f you surf at Huntington Beach right after it rains you risk getting a bacterial infectio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705720" y="2575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Runoff from the rain washes bacteria into the ocea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Cause-effect: bacteria in the water causes surfers to get ill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egin your arguments: How do I know if I need to use backings, rebuttals and qualifiers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sk yourself these questions when attempting to argue in this model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1. What position do I want my reader to tak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Where must my audience begin so that they can take the step I want them to take and agree with my claim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gin your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What is the linking idea between my grounds and claim? (Question 2 to 1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s the move from Question 2 to 1 safe and reliabl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What possibilities might upset the arguments (an exception that could invalidate my claim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6. Should I use qualifiers on my clai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 want restaurant owners to agree with me that they would benefit from adding a service charge and do away with tipping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-- A 15 percent service charge should be added to restaurant bills in lieu of tipp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I believe restaurant owners will value a stable work force and argument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aitresses making a reliable income will be less likely to leave AND a service fee will eliminate inequity that results from patrons being unsure how much to tip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ese are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grounds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The bottom line is that owners want maximum profit, so I should argue that a more stable and fairly treated staff will result in better profits. Therefore,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high turnover of servers is costly in the industr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 need to show that there is an economic benefit to making a staff happy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Paperwork and training involved in new hires is costly and time consum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backing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of my argument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need to consider what rebuttals one could make about my claim. In this case, I could argue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itially servers might resent the new policy and give poor service in protest to the limit on their earning potential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could respond to this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rebutt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by including a claim targeted at servers and suggesting this policy could bring them a stable income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Given my rebuttal, I would definitely want to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qualify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my argument to suggest the benefits for both employee and employer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 restaurants that have seen high turn-over and unstable income potential for servers, owners should adopt a 15 percent service fee to patron’s bills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ssumptions need to be true for the claim to be tru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The Chevy Metr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The Volv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The Ford Falcon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can you support or refute each claim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was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d 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hat is the underlying problem with claim 3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ulmin Model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rguments need three things to be viable: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Ground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Warrant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Backing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hen Toulm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29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tephen Toulmin, originally a British logician, is now a professor at USC.  He became frustrated with the inability of formal logic to explain everyday arguments, which prompted him to develop his own model of practical reasoning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1" name="Picture 12" descr="TOULMIN"/>
          <p:cNvPicPr/>
          <p:nvPr/>
        </p:nvPicPr>
        <p:blipFill>
          <a:blip r:embed="rId1"/>
          <a:srcRect l="0" t="0" r="10063" b="0"/>
          <a:stretch/>
        </p:blipFill>
        <p:spPr>
          <a:xfrm>
            <a:off x="2590920" y="2209680"/>
            <a:ext cx="24001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ree basic elemen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assertion or proposition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Grounds (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proof, grounds, support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inferential leap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o make these arguments, a writer </a:t>
            </a:r>
            <a:r>
              <a:rPr b="1" i="1" lang="en-US" sz="2400" spc="-1" strike="noStrike">
                <a:solidFill>
                  <a:srgbClr val="360036"/>
                </a:solidFill>
                <a:latin typeface="Tahoma"/>
              </a:rPr>
              <a:t>could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decide to use: relevance to the argument (backing), address opposing viewpoints (rebuttal)AND qualify your argument were it is logical to do so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24040" y="2057400"/>
            <a:ext cx="71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A claim is the point an arguer is trying to make.  The claim is the conclusion, proposition, or assertion an arguer wants another to accept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claim answers the question, "So what is your point?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Rosario is an American citizen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because she was born in the United States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Because the groundhog saw his shadow,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re will be six more weeks of winter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51:01Z</dcterms:created>
  <dc:creator>Robert H. Gass</dc:creator>
  <dc:description/>
  <dc:language>en-US</dc:language>
  <cp:lastModifiedBy>Beth Walsh-Moorman</cp:lastModifiedBy>
  <dcterms:modified xsi:type="dcterms:W3CDTF">2013-01-06T23:03:35Z</dcterms:modified>
  <cp:revision>57</cp:revision>
  <dc:subject/>
  <dc:title>Toulmin Model PPT</dc:title>
</cp:coreProperties>
</file>