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9E8F-CCC6-4098-AC76-7C7DDD6FE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4FC1-9875-4D8B-A9CF-F45C0EABEA23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2A3F-8206-4406-BBC3-C18D28CAC133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5957-22F4-4712-9E3F-B142A2C4679C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E2EC-D163-4E47-A158-D4B9CD40EF51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50BB-0846-448D-8F6A-CEE5EDC87D7A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BA2D-0DBD-4080-B35B-520D969C26CD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A846-7AC5-4739-A05C-C2BA17932736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E4B5-5E4F-48F6-86D9-EB3DEC803DEB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8B4B-7DF7-40BF-83FA-7DFF3659B0E2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3BF0-1ACA-4039-8092-DB98B0EF96D3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E44F-6E33-4186-BAF2-8D4A6FBEA665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69D7-EFA6-4270-B943-97042917B071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D219-5DBF-4973-83B7-DABACB81DBFC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E539-0B64-4171-9886-56A3744FC5CF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F02C-2772-44E5-92FF-FFC438CFAD3F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69BD-C7D6-48F3-B18A-289F8BB90457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8EE-11EE-4EF1-99D6-67217AFD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1FE-DE6A-4E75-A6AF-5137E357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A9C-35CB-4294-A14F-023DEB2E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533-2003-42B2-BC4C-8EBCAE17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38B8-3637-453C-A3B9-C5562BD1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C530-9186-4E5C-A8B9-53DFFF67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BC9E-B675-4929-8AA1-291F7A31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C660-49D6-47F0-BF59-58780795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7DAB-3EB1-44B4-9D09-4E30CC8E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C8A6-E743-4A37-959C-3BA18113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D8BB-5A9F-4783-A3B6-4AE5B36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75B-7D26-4CE2-8F2C-4A17D8A2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B6C6-4B0A-4847-BB11-107CFA85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F4DB-0769-487B-8B96-BE65589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30C2-61E9-4D99-97B4-C9882548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A3AB-82D3-4CDA-86FA-932304C6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6F40-BE23-499C-AB0C-515FA5F2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AFD-F02E-4A6C-9514-5818E585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4AF-6E3D-4A4F-9BF6-1CB8899C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186-752E-4662-AEA0-CEF1DF78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68C-3529-4A8F-886E-F777962B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309-DAAF-46F7-9159-0E83C9DC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832-A9E5-47CB-968D-529BB4E4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DFA-A563-4169-BAC8-7E7203F0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9da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5C23-BE8D-4C6F-AABF-F510A9BDA2E0}" type="slidenum">
              <a:rPr b="0" lang="en-US" sz="1400" spc="-1" strike="noStrike">
                <a:solidFill>
                  <a:srgbClr val="c99da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937C-0623-40A6-A8DB-0FF1A4088A7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oulmin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 tool for diagramming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nformal</a:t>
            </a:r>
            <a:r>
              <a:rPr b="0" lang="ja-JP" sz="32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arguments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claim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24040" y="2133720"/>
            <a:ext cx="62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re are four basic types of claim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fact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which focus on empirically verifiable phenomena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judgment/value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involving opinions, attitudes, and subjective evaluations of things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policy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advocating courses of action that should be undertaken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definition/classification: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indicates what criteria are being used to to define a term or what category something falls into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ounds (proof or data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76320" y="2133720"/>
            <a:ext cx="64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refers to the proof or evidence an arguer offer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can consist of statistics, quotations, reports, findings, physical evidence, or various forms of reasoning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m a vegetarian. 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One reason is that I feel sorry for the animals. Another reason is for my own health.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I made the dinner,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so you can do the dishes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ground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47720" y="2209680"/>
            <a:ext cx="73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are the support the arguer offers on behalf of his/her claim. The grounds answer questions such a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What is your proof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How do you know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Why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t looks like rain. 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 barometer is falling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"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 other Ritz Carlton hotels I've stayed at had great pool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, so I'll bet this one has a great pool too."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about ground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47720" y="2057400"/>
            <a:ext cx="68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can be based on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evidence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facts, statistics, reports, or physical proof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source credibility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uthorities, experts, celebrity endorsers, a close friend, or someone's say-so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analysis and reasoning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reasons may be offered as proof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premise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lready held by the listener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ue words for identifying grou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grounds for an argument often follow words such as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because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ince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iven that…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Airports should x-ray all luggage </a:t>
            </a: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because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 bomb could be placed in a checked baggage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 expect to do well on the test, </a:t>
            </a: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since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I studied all night for it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r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00360" y="2057400"/>
            <a:ext cx="612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is the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inferential leap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that connects the claim with the grounds. 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is typically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implicit 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(unstated) and requires the listener to recognize the connection between the claim and ground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implicit nature of warrants means the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eaning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of an argument is as much a part of the receiver as it is a part of the message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ome arguments are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ulti-warranted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e.g., based on more than one inferential leap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warrant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performs a "linking" function by establishing a mental connection between the grounds and the claim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Muffin is running a temperature.  I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ll bet she has an infection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"That dog is probably friendly.  It is a Golden Retriever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3880" y="379584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ahoma"/>
                <a:ea typeface="ＭＳ Ｐゴシック"/>
              </a:rPr>
              <a:t>(warrant: sign reasoning; a fever is a reliable sign of an infection)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981080" y="53341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(warrant: generalization; most or all Golden Retrievers are friendly)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about warrant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warrants can be based on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eth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source credibility, authority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log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reason-giving, induction, deduction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path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emotional or motivational appeal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value premise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values shared by, or presumed to be shared by, the receiver(s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note: these categories aren't mutually exclusive, there is considerable overlap among the three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048120" y="350532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844320" y="3503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05120" y="281952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The Indians are likely to win the ballgame ton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58000" y="2879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They are playing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at home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175280" y="516564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Generalization: The home team enjoys an advantage in baseball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971800" y="3505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4320" y="3503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52480" y="28195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Juno</a:t>
            </a: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 is a wonderful movie.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705720" y="25909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It was nominated for 4 Academy Awards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191120" y="516564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Sign: a movie</a:t>
            </a: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s greatness can be measured in the number of Oscar nominations it receives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re are three claims. Rate them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ssue: What car should we buy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We should buy the Chevy Metro because it is very economical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We should buy the Volvo station wagon because it is very safe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We should buy the Ford Falcon because it was red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971800" y="3505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844320" y="3505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828800" y="31845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Biff was probably in a f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705720" y="31845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He has a black eye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191120" y="516564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Sign: A black eye is a reliable indicator that a person has been in a f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4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AutoShape 3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895480" y="35053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44320" y="3505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828800" y="211788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If you surf at Huntington Beach right after it rains you risk getting a bacterial infection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705720" y="25750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Runoff from the rain washes bacteria into the ocean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4191120" y="516564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Cause-effect: bacteria in the water causes surfers to get ill.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egin your arguments: How do I know if I need to use backings, rebuttals and qualifiers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sk yourself these questions when attempting to argue in this model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1. What position do I want my reader to take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2. Where must my audience begin so that they can take the step I want them to take and agree with my claimM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gin your arg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3. What is the linking idea between my grounds and claim? (Question 2 to 1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4. Is the move from Question 2 to 1 safe and reliable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5. What possibilities might upset the arguments (an exception that could invalidate my claim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6. Should I use qualifiers on my claim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6003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 want restaurant owners to agree with me that they would benefit from adding a service charge and do away with tipping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-- A 15 percent service charge should be added to restaurant bills in lieu of tipping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claim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2. I believe restaurant owners will value a stable work force and argument,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Waitresses making a reliable income will be less likely to leave AND a service fee will eliminate inequity that results from patrons being unsure how much to tip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ese are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grounds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3. The bottom line is that owners want maximum profit, so I should argue that a more stable and fairly treated staff will result in better profits. Therefore,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 high turnover of servers is costly in the industry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warrant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4. I need to show that there is an economic benefit to making a staff happy,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Paperwork and training involved in new hires is costly and time consuming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backing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of my argument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5. 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 need to consider what rebuttals one could make about my claim. In this case, I could argue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nitially servers might resent the new policy and give poor service in protest to the limit on their earning potential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 could respond to this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rebuttal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by including a claim targeted at servers and suggesting this policy could bring them a stable income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60036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Given my rebuttal, I would definitely want to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qualify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my argument to suggest the benefits for both employee and employer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n restaurants that have seen high turn-over and unstable income potential for servers, owners should adopt a 15 percent service fee to patron’s bills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assumptions need to be true for the claim to be tru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The Chevy Metro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The Volvo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The Ford Falcon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can you support or refute each claim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We should buy the Chevy Metro because it is economical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We should buy the Volvo station wagon because it was safe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We should buy the Ford Falcon because it was red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id clai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What is the underlying problem with claim 3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ulmin Model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rguments need three things to be viable: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Ground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Warrant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Backing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ephen Toulm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29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Stephen Toulmin, originally a British logician, is now a professor at USC.  He became frustrated with the inability of formal logic to explain everyday arguments, which prompted him to develop his own model of practical reasoning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pic>
        <p:nvPicPr>
          <p:cNvPr id="111" name="Picture 12" descr="TOULMIN"/>
          <p:cNvPicPr/>
          <p:nvPr/>
        </p:nvPicPr>
        <p:blipFill>
          <a:blip r:embed="rId1"/>
          <a:srcRect l="0" t="0" r="10063" b="0"/>
          <a:stretch/>
        </p:blipFill>
        <p:spPr>
          <a:xfrm>
            <a:off x="2590920" y="2209680"/>
            <a:ext cx="24001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hree basic element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6324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Claim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(assertion or proposition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Grounds (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proof, grounds, support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Warrant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(inferential leap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o make these arguments, a writer </a:t>
            </a:r>
            <a:r>
              <a:rPr b="1" i="1" lang="en-US" sz="2400" spc="-1" strike="noStrike">
                <a:solidFill>
                  <a:srgbClr val="360036"/>
                </a:solidFill>
                <a:latin typeface="Tahoma"/>
              </a:rPr>
              <a:t>could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decide to use: relevance to the argument (backing), address opposing viewpoints (rebuttal)AND qualify your argument were it is logical to do so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ai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24040" y="2057400"/>
            <a:ext cx="7191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A claim is the point an arguer is trying to make.  The claim is the conclusion, proposition, or assertion an arguer wants another to accept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claim answers the question, "So what is your point?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Rosario is an American citizen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, because she was born in the United States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Because the groundhog saw his shadow,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re will be six more weeks of winter.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51:01Z</dcterms:created>
  <dc:creator>Robert H. Gass</dc:creator>
  <dc:description/>
  <dc:language>en-US</dc:language>
  <cp:lastModifiedBy>Beth Walsh-Moorman</cp:lastModifiedBy>
  <dcterms:modified xsi:type="dcterms:W3CDTF">2013-01-06T23:03:35Z</dcterms:modified>
  <cp:revision>57</cp:revision>
  <dc:subject/>
  <dc:title>Toulmin Model PPT</dc:title>
</cp:coreProperties>
</file>