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DB90C-8436-4010-AD84-40C7C268C6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39AAD-392B-4B79-B296-76141DF73B03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22E0-0E1C-425F-89B8-C8DBF2C113E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D05E-44C7-4953-AF6A-D31436EAE736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AFB69-B531-4E49-9E9C-84BEF7A90074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941F-D52A-446D-84B9-544CBB666EB0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6A39-6F53-47A5-ACD5-BD5760E2AB3C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314E3-31A5-4C72-9ACA-BE978F088D68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E9612-8B66-42AF-9978-B6E4769F5BB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EA3FC-8AA3-406E-BAFF-8266B5419A1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BF7-F51B-4F80-8ECE-2C01C1E31AF8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425AE-1A06-4627-B745-CE290FD559B2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DC8B-AA6A-4AA8-8C8C-4B63164B8AD5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4C1D-EA09-4AAF-9E52-30A64D442439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22FAD-7B14-4614-86D4-AF54EA84F12B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B8CC-AE4E-415D-A79B-CFD1E48C722A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A408F-CC36-46C5-B1F1-8E937FAB83AC}" type="slidenum">
              <a:rPr b="0" lang="en-US" sz="1200" spc="-1" strike="noStrike">
                <a:solidFill>
                  <a:srgbClr val="36003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B714-4434-427E-9ED6-E32743BB0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8864-01EB-4173-82F8-2A3C2F01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0616-A055-4EEE-829F-4565342AD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77DD-2614-43F3-9F93-C6710C0AE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0D41F-B0CF-4BA3-B015-9F8B391E0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84E39-E65E-4F93-ACB3-9619D33A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7E581-5E96-4171-998A-6774585A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DEC10-C175-49A5-A003-B307D847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DE745-775E-4307-AE5F-04B8A78D5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F16D6-B48F-4998-A6D8-F9311FF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BF1E1-36E1-4F0B-A1D2-54B152BC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3AD-50A0-425D-AF3B-84FFC2954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9FB5D-64EB-443E-BE81-459896FB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347E9-6452-4E29-8DA3-04BFCA43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4AF8-CD2E-44E0-8D28-9D843041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6014C-1753-4D40-9C59-6D6D64431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8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224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66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8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224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CBA83-8BA6-46F7-A43E-9F19CE96C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0A1C-BB98-4CD5-A859-94CD6BDA3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D6F-113E-49A7-91E0-3F0D32990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5362-BA5D-45F3-B0E4-B8FFD9461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5A13-8217-4E25-9B04-DCC2BA269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B65F-F37C-4687-940D-81F81FC7D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495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6FDC-6042-4FBF-9E25-52538180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68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495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68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A96-BAFF-4E60-BF3B-58F13627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0"/>
              <a:ext cx="9144000" cy="1905120"/>
            </a:xfrm>
            <a:custGeom>
              <a:avLst/>
              <a:gdLst/>
              <a:ahLst/>
              <a:rect l="l" t="t" r="r" b="b"/>
              <a:pathLst>
                <a:path w="5760" h="1200">
                  <a:moveTo>
                    <a:pt x="0" y="0"/>
                  </a:moveTo>
                  <a:lnTo>
                    <a:pt x="1008" y="1200"/>
                  </a:lnTo>
                  <a:lnTo>
                    <a:pt x="5760" y="336"/>
                  </a:lnTo>
                  <a:lnTo>
                    <a:pt x="57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6002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8858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1625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99da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9525-58EA-4302-AC53-530CBABEEF80}" type="slidenum">
              <a:rPr b="0" lang="en-US" sz="1400" spc="-1" strike="noStrike">
                <a:solidFill>
                  <a:srgbClr val="c99da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9da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6" name="Rectangle 3"/>
            <p:cNvSpPr/>
            <p:nvPr/>
          </p:nvSpPr>
          <p:spPr>
            <a:xfrm>
              <a:off x="1600200" y="0"/>
              <a:ext cx="7543800" cy="6858000"/>
            </a:xfrm>
            <a:prstGeom prst="rect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0"/>
              <a:ext cx="1600200" cy="685800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  <p:sp>
          <p:nvSpPr>
            <p:cNvPr id="48" name="Freeform 5"/>
            <p:cNvSpPr/>
            <p:nvPr/>
          </p:nvSpPr>
          <p:spPr>
            <a:xfrm>
              <a:off x="0" y="0"/>
              <a:ext cx="9144000" cy="3809880"/>
            </a:xfrm>
            <a:custGeom>
              <a:avLst/>
              <a:gdLst/>
              <a:ahLst/>
              <a:rect l="l" t="t" r="r" b="b"/>
              <a:pathLst>
                <a:path w="5760" h="2400">
                  <a:moveTo>
                    <a:pt x="0" y="1200"/>
                  </a:moveTo>
                  <a:lnTo>
                    <a:pt x="1008" y="2400"/>
                  </a:lnTo>
                  <a:lnTo>
                    <a:pt x="5760" y="1536"/>
                  </a:lnTo>
                  <a:lnTo>
                    <a:pt x="5760" y="0"/>
                  </a:lnTo>
                  <a:lnTo>
                    <a:pt x="0" y="0"/>
                  </a:lnTo>
                  <a:lnTo>
                    <a:pt x="0" y="1200"/>
                  </a:lnTo>
                  <a:close/>
                </a:path>
              </a:pathLst>
            </a:cu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60036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36003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6761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C5B3E-49B6-4FB3-B7D2-D40E4ABC457C}" type="slidenum">
              <a:rPr b="0" lang="en-US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oulmin Mode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057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tool for diagramming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formal</a:t>
            </a:r>
            <a:r>
              <a:rPr b="0" lang="ja-JP" sz="32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arguments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98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898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898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claim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724040" y="2133720"/>
            <a:ext cx="6276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re are four basic types of claim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fact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which focus on empirically verifiable phenomena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judgment/valu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involving opinions, attitudes, and subjective evaluations of things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olic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claims advocating courses of action that should be undertaken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definition/classification: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ndicates what criteria are being used to to define a term or what category something falls into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rounds (proof or data)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876320" y="2133720"/>
            <a:ext cx="64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refers to the proof or evidence an arguer offers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consist of statistics, quotations, reports, findings, physical evidence, or various forms of reasoning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 a vegetaria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One reason is that I feel sorry for the animals. Another reason is for my own health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I made the dinner, 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o you can do the dishes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0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647720" y="2209680"/>
            <a:ext cx="73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are the support the arguer offers on behalf of his/her claim. The grounds answer questions such as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at is your proof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How do you know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"Why?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t looks like rain. 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barometer is falling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 other Ritz Carlton hotels I've stayed at had great pool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so I'll bet this one has a great pool too."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ground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647720" y="2057400"/>
            <a:ext cx="68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round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evidence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facts, statistics, reports, or physical proof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ource credibility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uthorities, experts, celebrity endorsers, a close friend, or someone's say-so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analysis and reasoning: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reasons may be offered as proof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premises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lready held by the listener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0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Clue words for identifying ground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67616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grounds for an argument often follow words such as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becaus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ince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given that…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Airports should x-ray all luggage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becaus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a bomb could be placed in a checked baggage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I expect to do well on the test, </a:t>
            </a:r>
            <a:r>
              <a:rPr b="1" lang="en-US" sz="2000" spc="-1" strike="noStrike">
                <a:solidFill>
                  <a:srgbClr val="360036"/>
                </a:solidFill>
                <a:latin typeface="Tahoma"/>
              </a:rPr>
              <a:t>since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I studied all night for it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0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20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20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arra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00360" y="2057400"/>
            <a:ext cx="612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he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nferential leap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that connects the claim with the grounds. 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is typically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implicit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(unstated) and requires the listener to recognize the connection between the claim and ground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implicit nature of warrants means th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eaning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of an argument is as much a part of the receiver as it is a part of the message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Some arguments are 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multi-warranted,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.g., based on more than one inferential leap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20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74390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warrant performs a "linking" function by establishing a mental connection between the grounds and the claim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Muffin is running a temperature.  I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’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ll bet she has an infection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"That dog is probably friendly.  It is a Golden Retriever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1523880" y="3795840"/>
            <a:ext cx="72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  <a:ea typeface="ＭＳ Ｐゴシック"/>
              </a:rPr>
              <a:t>(warrant: sign reasoning; a fever is a reliable sign of an infection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1981080" y="5334120"/>
            <a:ext cx="6248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(warrant: generalization; most or all Golden Retrievers are friendly)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nodeType="clickEffect" fill="hold">
                      <p:stCondLst>
                        <p:cond delay="0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2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1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7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ill more about warrants..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752120" y="20574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warrants can be based on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e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source credibility, authority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log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reason-giving, induction, deduction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patho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emotional or motivational appeals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value premises: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values shared by, or presumed to be shared by, the receiver(s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22200" indent="-32220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note: these categories aren't mutually exclusive, there is considerable overlap among the three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2000"/>
                                        <p:tgtEl>
                                          <p:spTgt spid="1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1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3048120" y="3505320"/>
            <a:ext cx="100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1905120" y="2819520"/>
            <a:ext cx="2666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 Indians are likely to win the ballgame ton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6858000" y="287964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They are playing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at hom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1" name="Text Box 2"/>
          <p:cNvSpPr/>
          <p:nvPr/>
        </p:nvSpPr>
        <p:spPr>
          <a:xfrm>
            <a:off x="4175280" y="5165640"/>
            <a:ext cx="298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Generalization: The home team enjoys an advantage in baseball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2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6844320" y="35035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7" name="Text Box 4"/>
          <p:cNvSpPr/>
          <p:nvPr/>
        </p:nvSpPr>
        <p:spPr>
          <a:xfrm>
            <a:off x="1752480" y="281952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Juno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 is a wonderful movie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6705720" y="259092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t was nominated for 4 Academy Award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191120" y="5165640"/>
            <a:ext cx="327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movie</a:t>
            </a:r>
            <a:r>
              <a:rPr b="0" lang="ja-JP" sz="2000" spc="-1" strike="noStrike">
                <a:solidFill>
                  <a:srgbClr val="5536c8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s greatness can be measured in the number of Oscar nominations it receives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ere are three claims. Rate them.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ssue: What car should we bu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very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is very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3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1" name="AutoShape 8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2971800" y="350532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1828800" y="318456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Biff was probably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6705720" y="318456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He has a black eye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57" name="Text Box 2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Sign: A black eye is a reliable indicator that a person has been in a fight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3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the first triad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sample argument 4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AutoShape 3"/>
          <p:cNvSpPr/>
          <p:nvPr/>
        </p:nvSpPr>
        <p:spPr>
          <a:xfrm flipV="1">
            <a:off x="4038480" y="3352680"/>
            <a:ext cx="2667240" cy="1524240"/>
          </a:xfrm>
          <a:custGeom>
            <a:avLst/>
            <a:gdLst>
              <a:gd name="textAreaLeft" fmla="*/ 266760 w 2667240"/>
              <a:gd name="textAreaRight" fmla="*/ 2400840 w 2667240"/>
              <a:gd name="textAreaTop" fmla="*/ 871560 h 1524240"/>
              <a:gd name="textAreaBottom" fmla="*/ 1306800 h 15242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6480" y="6171"/>
                </a:lnTo>
                <a:lnTo>
                  <a:pt x="8640" y="6171"/>
                </a:lnTo>
                <a:lnTo>
                  <a:pt x="8640" y="12343"/>
                </a:lnTo>
                <a:lnTo>
                  <a:pt x="4320" y="12343"/>
                </a:lnTo>
                <a:lnTo>
                  <a:pt x="4320" y="9257"/>
                </a:lnTo>
                <a:lnTo>
                  <a:pt x="0" y="15429"/>
                </a:lnTo>
                <a:lnTo>
                  <a:pt x="4320" y="21600"/>
                </a:lnTo>
                <a:lnTo>
                  <a:pt x="4320" y="18514"/>
                </a:lnTo>
                <a:lnTo>
                  <a:pt x="17280" y="18514"/>
                </a:lnTo>
                <a:lnTo>
                  <a:pt x="17280" y="21600"/>
                </a:lnTo>
                <a:lnTo>
                  <a:pt x="21600" y="15429"/>
                </a:lnTo>
                <a:lnTo>
                  <a:pt x="17280" y="9257"/>
                </a:lnTo>
                <a:lnTo>
                  <a:pt x="17280" y="12343"/>
                </a:lnTo>
                <a:lnTo>
                  <a:pt x="12960" y="12343"/>
                </a:lnTo>
                <a:lnTo>
                  <a:pt x="12960" y="6171"/>
                </a:lnTo>
                <a:lnTo>
                  <a:pt x="15120" y="6171"/>
                </a:lnTo>
                <a:lnTo>
                  <a:pt x="10800" y="0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895480" y="3505320"/>
            <a:ext cx="115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Claim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844320" y="3505320"/>
            <a:ext cx="123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Grounds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4800240" y="4800600"/>
            <a:ext cx="11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imes New Roman"/>
              </a:rPr>
              <a:t>Warrant</a:t>
            </a:r>
            <a:endParaRPr b="0" lang="en-US" sz="24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1828800" y="2117880"/>
            <a:ext cx="25146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If you surf at Huntington Beach right after it rains you risk getting a bacterial infectio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6705720" y="2575080"/>
            <a:ext cx="228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Runoff from the rain washes bacteria into the ocean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4191120" y="5165640"/>
            <a:ext cx="327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36c8"/>
                </a:solidFill>
                <a:latin typeface="Times New Roman"/>
              </a:rPr>
              <a:t>(unstated) Cause-effect: bacteria in the water causes surfers to get ill.</a:t>
            </a:r>
            <a:endParaRPr b="0" lang="en-US" sz="2000" spc="-1" strike="noStrike">
              <a:solidFill>
                <a:srgbClr val="36003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nodeType="clickEffect" fill="hold">
                      <p:stCondLst>
                        <p:cond delay="0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4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ahoma"/>
              </a:rPr>
              <a:t>Begin your arguments: How do I know if I need to use backings, rebuttals and qualifiers?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sk yourself these questions when attempting to argue in this model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1. What position do I want my reader to tak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Where must my audience begin so that they can take the step I want them to take and agree with my claim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egin your argumen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What is the linking idea between my grounds and claim? (Question 2 to 1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s the move from Question 2 to 1 safe and reliable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What possibilities might upset the arguments (an exception that could invalidate my claim)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6. Should I use qualifiers on my claim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 want restaurant owners to agree with me that they would benefit from adding a service charge and do away with tipping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-- A 15 percent service charge should be added to restaurant bills in lieu of tipp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 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430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2. I believe restaurant owners will value a stable work force and argument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aitresses making a reliable income will be less likely to leave AND a service fee will eliminate inequity that results from patrons being unsure how much to tip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ese are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grounds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3. The bottom line is that owners want maximum profit, so I should argue that a more stable and fairly treated staff will result in better profits. Therefore,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 high turnover of servers is costly in the industry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4. I need to show that there is an economic benefit to making a staff happy, so I will argue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Paperwork and training involved in new hires is costly and time consuming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This is the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backing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of my argument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3366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5. 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need to consider what rebuttals one could make about my claim. In this case, I could argue: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nitially servers might resent the new policy and give poor service in protest to the limit on their earning potential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I could respond to this </a:t>
            </a: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rebuttal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by including a claim targeted at servers and suggesting this policy could bring them a stable income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, let’s go through an argument question by ques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360036"/>
              </a:buClr>
              <a:buFont typeface="Tahom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Given my rebuttal, I would definitely want to </a:t>
            </a:r>
            <a:r>
              <a:rPr b="1" lang="en-US" sz="3200" spc="-1" strike="noStrike">
                <a:solidFill>
                  <a:srgbClr val="360036"/>
                </a:solidFill>
                <a:latin typeface="Tahoma"/>
              </a:rPr>
              <a:t>qualify</a:t>
            </a: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 my argument to suggest the benefits for both employee and employer: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In restaurants that have seen high turn-over and unstable income potential for servers, owners should adopt a 15 percent service fee to patron’s bills.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What assumptions need to be true for the claim to be true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The Chevy Metr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The Volvo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The Ford Falcon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How can you support or refute each claim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1: We should buy the Chevy Metro because it is economical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2: We should buy the Volvo station wagon because it was safe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Claim 3: We should buy the Ford Falcon because it was red.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alid 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What is the underlying problem with claim 3?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oulmin Model: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2668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60036"/>
                </a:solidFill>
                <a:latin typeface="Tahoma"/>
              </a:rPr>
              <a:t>Arguments need three things to be viable: </a:t>
            </a:r>
            <a:endParaRPr b="0" lang="en-US" sz="32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Ground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Warrants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60036"/>
                </a:solidFill>
                <a:latin typeface="Tahoma"/>
              </a:rPr>
              <a:t>Backing</a:t>
            </a:r>
            <a:endParaRPr b="0" lang="en-US" sz="28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tephen Toulmi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2290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Stephen Toulmin, originally a British logician, is now a professor at USC.  He became frustrated with the inability of formal logic to explain everyday arguments, which prompted him to develop his own model of practical reasoning.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  <p:pic>
        <p:nvPicPr>
          <p:cNvPr id="111" name="Picture 12" descr="TOULMIN"/>
          <p:cNvPicPr/>
          <p:nvPr/>
        </p:nvPicPr>
        <p:blipFill>
          <a:blip r:embed="rId1"/>
          <a:srcRect l="0" t="0" r="10063" b="0"/>
          <a:stretch/>
        </p:blipFill>
        <p:spPr>
          <a:xfrm>
            <a:off x="2590920" y="2209680"/>
            <a:ext cx="2400120" cy="23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The three basic elements: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676520" y="2057040"/>
            <a:ext cx="63244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Claim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assertion or proposition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Grounds (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proof, grounds, support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0036"/>
                </a:solidFill>
                <a:latin typeface="Tahoma"/>
              </a:rPr>
              <a:t>Warrant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(inferential leap)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2638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o make these arguments, a writer </a:t>
            </a:r>
            <a:r>
              <a:rPr b="1" i="1" lang="en-US" sz="2400" spc="-1" strike="noStrike">
                <a:solidFill>
                  <a:srgbClr val="360036"/>
                </a:solidFill>
                <a:latin typeface="Tahoma"/>
              </a:rPr>
              <a:t>could</a:t>
            </a: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 decide to use: relevance to the argument (backing), address opposing viewpoints (rebuttal)AND qualify your argument were it is logical to do so. 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aim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24040" y="2057400"/>
            <a:ext cx="7191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A claim is the point an arguer is trying to make.  The claim is the conclusion, proposition, or assertion an arguer wants another to accept.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6003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60036"/>
                </a:solidFill>
                <a:latin typeface="Tahoma"/>
              </a:rPr>
              <a:t>The claim answers the question, "So what is your point?</a:t>
            </a:r>
            <a:r>
              <a:rPr b="0" lang="ja-JP" sz="24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4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Rosario is an American citizen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, because she was born in the United States.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6003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example: </a:t>
            </a:r>
            <a:r>
              <a:rPr b="0" lang="ja-JP" sz="2000" spc="-1" strike="noStrike">
                <a:solidFill>
                  <a:srgbClr val="360036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360036"/>
                </a:solidFill>
                <a:latin typeface="Tahoma"/>
              </a:rPr>
              <a:t>Because the groundhog saw his shadow,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5536c8"/>
                </a:solidFill>
                <a:latin typeface="Tahoma"/>
              </a:rPr>
              <a:t>there will be six more weeks of winter.</a:t>
            </a:r>
            <a:r>
              <a:rPr b="0" lang="ja-JP" sz="2000" spc="-1" strike="noStrike">
                <a:solidFill>
                  <a:srgbClr val="5536c8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6003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3T14:51:01Z</dcterms:created>
  <dc:creator>Robert H. Gass</dc:creator>
  <dc:description/>
  <dc:language>en-US</dc:language>
  <cp:lastModifiedBy>Beth Walsh-Moorman</cp:lastModifiedBy>
  <dcterms:modified xsi:type="dcterms:W3CDTF">2013-01-06T23:03:35Z</dcterms:modified>
  <cp:revision>57</cp:revision>
  <dc:subject/>
  <dc:title>Toulmin Model PPT</dc:title>
</cp:coreProperties>
</file>